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6E95C60-2AA5-4F0A-8079-09298963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F0D69F6-35F9-455C-8F48-6AE6D2375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716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quality grade can translate into HICPAC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89D90A7-BD48-443C-914B-F3DBAB8FB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OutpatientPPS" TargetMode="External"/><Relationship Id="rId2" Type="http://schemas.openxmlformats.org/officeDocument/2006/relationships/hyperlink" Target="http://www.cms.hhs.gov/HospitalAcqCond" TargetMode="External"/><Relationship Id="rId3" Type="http://schemas.openxmlformats.org/officeDocument/2006/relationships/hyperlink" Target="mailto:heather.hostetler@cms.hhs.gov" TargetMode="External"/><Relationship Id="rId4" Type="http://schemas.openxmlformats.org/officeDocument/2006/relationships/hyperlink" Target="mailto:carol.bazell@cms.hhs.gov" TargetMode="External"/><Relationship Id="rId5" Type="http://schemas.openxmlformats.org/officeDocument/2006/relationships/hyperlink" Target="mailto:sheila.roman@cms.hhs.gov" TargetMode="External"/><Relationship Id="rId6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dc.gov/od/oc/media/pressrel/r2k0306b.ht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docket.access.gpo.gov/2008/pdf/E8-17914.pdf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dc.gov/ncidod/dhqp/hicpac.html" TargetMode="Externa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cms.hhs.gov/HospitalAcqCond/" TargetMode="Externa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dc.gov/nchs/datawh/ftpserv/ftpicd9/icdguide08.pdf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808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&amp; Quality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Hospital Outpatient Healthcare-Associated Conditions Listening Sess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, December 18, 200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mprovement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’s Dartmouth Atlas on variation in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’s NEJM findings on lack of evidence-base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M’s Crossing the Quality Chasm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Unnecessary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’s various fee-for-service fee schedules and prospective payment systems are bas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ource consum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are,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necessary cost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systems’ incentives are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stions to Addr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ommon in the HOP set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uidelines/prevention interventions exi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of the term “…reasonably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effective are prevention interven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identif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ICD-9 codes or other HOP claim report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P conditions that result in inpatient ad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for sequential evaluation of Medicare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-based vs. rat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ources a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Register/ Vol. 73, No. 223/ p.68781-68787 at: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ms.hhs.gov/HospitalOutpatient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AC information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ospitalAcq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-HAC cont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heather.hostetler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4"/>
              </a:rPr>
              <a:t>carol.bazell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Arial"/>
                <a:hlinkClick r:id="rId5"/>
              </a:rPr>
              <a:t>sheila.roman@cms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Remark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VB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Solvency and Beneficia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ditures up from $219 billion in 2000 to a projected $486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A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of expenditures over tax income i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to be depleted by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B Trus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nditures increasing 11% per year over the last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premiums, deductibles, and cost-sharing are projected to consume 28% of the average beneficiaries’ Social Security check in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rt for V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s 2006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ional Interest in P4P and Other Value-Based Purchas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PA, MMA, DRA, TRCHA, MMSEA, MIP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PAC Reports to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related to quality, efficiency, health information technology, and paymen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P recommendation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Err Is Hu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ossing the Quality Ch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warding Provider Performance: Aligning Incentives in Med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health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 coal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mier Hospital Quality Incentiv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Group Practi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Care Management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Home Value-Based Purchasing Demons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Pay for Performanc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Demonstrations and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 Support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for High-Cost Beneficiarie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Healthcare Quality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haring 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Care Episode (ACE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Quality Information (BQI)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Health Records (EHR)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Home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37160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Quality Reporting Initi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Resource Us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VBP Plan &amp; Report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Health Care Pay for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Pay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Initia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spital-Acquired Conditions and Present on Admission Indicat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505320"/>
            <a:ext cx="6324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M estimated in 1999 that as many as 98,000 Americans die each year as a result of medical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ational costs of these errors estimated at $17-29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M:  To Err is Human: Building a Safer Health System, November 1999.  Available at:  http://www.iom.edu/Object.File/Master/4/117/ToErr-8pager.pd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, CDC estimated that hospital-acquired infections add nearly $5 billion to U.S. health care cost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s for Disease Control and Prevention:  Press Release, March 2000.  Available at: 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od/oc/media/pressrel/r2k0306b.ht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study found that, in 2002, 1.7 million hospital-acquired infections were associated with 99,000 de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evens et al.  Estimating Health Care-Associated Infection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ths in U.S. Hospitals, 2002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ublic Health Repor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March-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.  Volume 1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C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007 Leapfrog Group survey of 1,256 hospitals found that 87% of those hospitals do not consistently follow recommendations to prevent many of the most common hospital-acquired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 Leapfrog Group Hospital Survey.  The Leapfrog Group 200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at:  http://www.leapfroggroup.org/media/file/Leapfrog_hospital_acquired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ections_release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b Kuh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Authority: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 Section 5001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7, IPPS hospitals were required to submit data on their claims for payment indicating whether diagnoses were present on admission (P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ctober 1, 2008, CMS cannot assign a case to a higher DRG based on the occurrence of one of the selected conditions, if that condition was acquired during the hospit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must select conditions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, high volume, 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to a higher paying DRG when present as a secondary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ably preventable through the application of evidence-based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MS and Centers for Disease Control and Prevention (CDC) internal Workgroup selected the H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comments from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/CDC sponsored List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7, 2007 &amp; December 1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meetings with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Prospective Payment System (IPPS)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and Final rules for Fiscal Years (FY) 2007, 2008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Hospital &amp;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and Candidate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e Kelly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object retained after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ul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II &amp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cranial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hing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festations of poor glyce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glycemic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ic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keototic hyperosmolar 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ketoacid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diabetes with hyperosmo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heter-associated urinary tract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catheter-associated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vein thrombosis (DVT)/pulmonary embolism (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knee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HACs for Imple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Surgical site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stinitis after coronary artery bypass graft (CAB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orthoped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iatric surgery for obe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rascopic gastric by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troenterost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aroscopic gastric restrictive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Year 2009 Inpatient Prospective Payment System (IPPS)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edocket.access.gpo.gov/2008/pdf/E8-17914.pd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page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 following device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r disability associated with drugs, devices, or 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didate HA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cal site infections following procedures – orthopedic and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tor-associated pneu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ostridium diffic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ssociated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Polic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Disease Control &amp;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ing Remark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Haddix, Ph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 Director, CDC – Division of Healthcare Quality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idence-Based Guidelin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sley Richards, MD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 supports CMS efforts to align payment a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, and elimination eventually, of healthcare-associated infections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l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n effective value-bas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, payment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he application of evidence-based preven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centivize payment for preventabl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ly, payment will reward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31880" y="868320"/>
            <a:ext cx="768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1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 is working to prevent hospital-acquir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51040" y="114300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792960" y="-705240"/>
            <a:ext cx="1558080" cy="63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265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2651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Healthcare-associated Inf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5016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ntimicrobial 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1782720"/>
            <a:ext cx="0" cy="73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1782720"/>
            <a:ext cx="0" cy="73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514600"/>
            <a:ext cx="1461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dverse Drug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6680" y="2514600"/>
            <a:ext cx="1461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fusion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ransplant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3611520"/>
            <a:ext cx="11890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Device/ Procedure -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46280" y="3611520"/>
            <a:ext cx="1189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Settings/ Practices-relate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22240" y="3246480"/>
            <a:ext cx="1096920" cy="365040"/>
            <a:chOff x="822240" y="3246480"/>
            <a:chExt cx="1096920" cy="365040"/>
          </a:xfrm>
        </p:grpSpPr>
        <p:sp>
          <p:nvSpPr>
            <p:cNvPr id="129" name=""/>
            <p:cNvSpPr/>
            <p:nvPr/>
          </p:nvSpPr>
          <p:spPr>
            <a:xfrm flipH="1">
              <a:off x="82224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9800" y="324648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4343400"/>
            <a:ext cx="1096920" cy="365040"/>
            <a:chOff x="822240" y="4343400"/>
            <a:chExt cx="1096920" cy="365040"/>
          </a:xfrm>
        </p:grpSpPr>
        <p:sp>
          <p:nvSpPr>
            <p:cNvPr id="132" name=""/>
            <p:cNvSpPr/>
            <p:nvPr/>
          </p:nvSpPr>
          <p:spPr>
            <a:xfrm flipH="1" flipV="1">
              <a:off x="82224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369800" y="4343400"/>
              <a:ext cx="54936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74680" y="480060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MRS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C. Difficil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Lucida Sans Unicode"/>
              </a:rPr>
              <a:t>Acinetobact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581280"/>
            <a:ext cx="4206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break Invest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ion Recommen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entio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mural Applied Preventi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Research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for Preventing H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guideline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organizations, Task Forces, Government agencies, academ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for interventions based scientific evidence or expert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velops and use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,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makers,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nfection Control Practices Advisory Committee (HICP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ecretary…and the Director, Centers for Disease Control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vice and guidance regarding the practice of infection control and strategies for surveillance, prevention, and control of healthcare-associated infections … in settings … including hospitals, long-term care facilities, and home health ag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ing of existing guidelines, development of new guidelines, guideline evaluation; and other policy statements regarding the prevention of healthcare-associated infections and healthcare-related condi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ittee shall consist of 14 public members, including the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able in the fields of infectious diseases, healthcare-associated infections and healthcare-related events, epidemiology, health policy, health services research, public health, and related fie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Federal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Drug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 for Medicare and Medicai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Resources and Services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s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voting liaison representatives from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rofessionals in Infection Control and Epidemiology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for Healthcare Epidemiology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Perioperative Registered N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lth Care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ollege of Occupational and Environmental Medic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Commission on Accreditation of 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y Council for the Elimination of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onvoting liaison representatives as the Secretary deem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CPAC 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2-200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Preca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Multidrug-Resistant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za Vaccination of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nce on Public Reporting of Healthcare-Associated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Healthcare Associated Pneu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Infection Control in Healthcare Fac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mallpox Vaccine in a Pre-Event Vaccin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ng Intravascular Device-Related Inf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ygiene in Health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-1999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ion of Surgical Site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 Control in Healthcar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of Health Care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est on the hori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infection Sterilization (in 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vention of catheter-associated U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ovirus in healthcare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cinations for healthca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veillance and risk assessment,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846000" y="-1305000"/>
            <a:ext cx="108360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Officer &amp; Senior Ad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S’ Value-Based Purchasing Initiativ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 Valuck, MD, J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3750" t="9657" r="0" b="0"/>
          <a:stretch/>
        </p:blipFill>
        <p:spPr>
          <a:xfrm>
            <a:off x="0" y="0"/>
            <a:ext cx="944892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Guidelin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2600" y="1980720"/>
            <a:ext cx="781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uidelines vs. “guid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 and Norovirus Guidelines as test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apid production an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ansparency and reproduc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228600"/>
          <a:ext cx="9144000" cy="5873760"/>
        </p:xfrm>
        <a:graphic>
          <a:graphicData uri="http://schemas.openxmlformats.org/drawingml/2006/table">
            <a:tbl>
              <a:tblPr/>
              <a:tblGrid>
                <a:gridCol w="2133720"/>
                <a:gridCol w="2166840"/>
                <a:gridCol w="2506680"/>
                <a:gridCol w="2336760"/>
              </a:tblGrid>
              <a:tr h="87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CP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Benefit / H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-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- 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 – High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High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– Low to Ver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further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 Trade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to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Recommendation / Unresolved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 Quality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44197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-driven out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36160" y="1981080"/>
            <a:ext cx="890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1. Which patients should receive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2. What practices/factors decrease the risk of infection associated with urinary cath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Q3. What are the best methods to manage urinary catheter-associated compli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3480" y="0"/>
          <a:ext cx="9110520" cy="6095880"/>
        </p:xfrm>
        <a:graphic>
          <a:graphicData uri="http://schemas.openxmlformats.org/drawingml/2006/table">
            <a:tbl>
              <a:tblPr/>
              <a:tblGrid>
                <a:gridCol w="920520"/>
                <a:gridCol w="776520"/>
                <a:gridCol w="182520"/>
                <a:gridCol w="490320"/>
                <a:gridCol w="1516320"/>
                <a:gridCol w="1261800"/>
                <a:gridCol w="182520"/>
                <a:gridCol w="495360"/>
                <a:gridCol w="2301840"/>
                <a:gridCol w="182880"/>
                <a:gridCol w="799920"/>
              </a:tblGrid>
              <a:tr h="98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uthor, Yr 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Qu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tudy Obje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pulation and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Operative Catheter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hipps, 2006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ystematic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2,3,4,5,6,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 establish the optimal way to manage urinary catheters following urogenital surgery in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andomized and quasi-randomized tr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9 R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  <a:ea typeface="Times New Roman"/>
                        </a:rPr>
                        <a:t>1. Using a urinary catheter vs. not using a urinary cath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ention of ur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12(0.03-0.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T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(4 studies) – 1.35(0.75-2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catheteriz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3 studies) – 0.32(0.14-0.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urethral strictu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1.14(0.90-1.4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ost-op hematuri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(1 study) – 0.73(0.40-1.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520" y="2130120"/>
            <a:ext cx="8602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idod/dhqp/hicpac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12193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CPAC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a Grabert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and popul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of HACs for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for some H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of POA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of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125 codes capturing size, depth, and location of pressure ul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of the IPPS HAC payment provision to other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in the IRF, OPPS/ASC, SNF, LTCH               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rtunities for HAC &amp; POA  Invol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2952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the CMS HAC &amp; POA website: 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HospitalAcqCond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10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Open Door Foru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Listserv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CMS – 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s in Practice – Mediastinitis Following CAB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Rich, M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alue-Based Purchasing (VBP)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Demonstrations and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’ VBP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-Acquired Conditions &amp; Present on Admission Indicator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 Scanning and Opportunities for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Division of Acut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ing for HAC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dy Hue, RHIA, C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C Statutory Select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 must trigger highe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s, including infections, can be designated complicating conditions (CCs) or major complicating conditions (MC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may split into three different levels of severity, based on complications (no CC or MCC, CC, or M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ce of a CC or MCC condition as a secondary diagnosis on a claim generates higher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on admission (POA) is defined as present at the time the order for inpatient admis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that develop during an outpatient encounter, including emergency department, observation, or outpatient surgery, are considered P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indicator is assig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diagno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ause of injury codes (Medicare requires reporting only if E-code is reported as an           additional diagnos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990720"/>
          <a:ext cx="9144000" cy="5833800"/>
        </p:xfrm>
        <a:graphic>
          <a:graphicData uri="http://schemas.openxmlformats.org/drawingml/2006/table">
            <a:tbl>
              <a:tblPr/>
              <a:tblGrid>
                <a:gridCol w="1225440"/>
                <a:gridCol w="7918560"/>
              </a:tblGrid>
              <a:tr h="544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Indicator Options and Definitio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 for 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gnosis was not present at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insufficient to determine if condition w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 at the time 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inically undetermined.  Provider unable to clinicall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 whether the condition was present at th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patient admis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reported/Not used.  Exempt from POA reporting.  This co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equivalent code of a blank on the UB-04; however, it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ed that blanks are undesirable when submitting th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via the 4010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A Indicator Repor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A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pays the CC/MCC condition for selected HACs that are coded as “Y” &amp; “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oes NOT pay the CC/MCC condition for selected HACs that are coded “N” &amp;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304920" y="0"/>
          <a:ext cx="8534160" cy="6943680"/>
        </p:xfrm>
        <a:graphic>
          <a:graphicData uri="http://schemas.openxmlformats.org/drawingml/2006/table">
            <a:tbl>
              <a:tblPr/>
              <a:tblGrid>
                <a:gridCol w="5263920"/>
                <a:gridCol w="1917720"/>
                <a:gridCol w="1352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Assig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xamples for a single  secondary diagnos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A Status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ary 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out CC/MC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,177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Stroke with 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ury due to a fall (code 836.4 (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S-DRG 0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,030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Diagnosis:  Stroke with M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S-DRG 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ample Secondary Diagnos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ge III pressure ulcer (code 707.23 (MCC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,347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nsurance Special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– Provider Bill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fe of an Inpatient Acute Care HAC Clai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rah Shirey-Lo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PS hospital submits a claim to the Medicare Cont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comes into Medicare Claims Processing System and goes through various edit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ffere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A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OA stream en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OAs does not equal # diagnoses on cl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GROU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a POA indicator is included for all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e POA stream indicator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ll ICD-9-CM codes for HAC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s MS-DRG assignment if an HAC is coded as “N” or “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other CC/MCCs are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of a Claim: Step #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reimbursement is determined  by Pr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passes though the Common Working File (CW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on:  The right care for every person ev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c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Systems Administr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 – National Center for Heal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ance for POA Indicator Coding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a Pickett, RHIA, M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32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www.cdc.gov/nchs/datawh/ftpserv/ftpicd9/icdguide08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, 2008 update contains an Appendix of instructions for proper coding  of POA indicator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D-9-CM Official Coding Guide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effort between the healthcare provider and the coder is essential to achieve complete and accurate documentation, code assignment, and reporting of diagnoses and procedur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CD-9-CM  Official Guidelines for Coding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for POA Coding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Hospital Association’s Coding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ooperating Pa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for Disease Control &amp;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ealth Information Management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Hospital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ial Advisory Board (E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Quarterly Publications Addressing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Quarter 2008 – FA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Public Comment 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ning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AHRQ -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ene Fra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23520" y="434304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Science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– Center for Delivery, Organization, and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8080" y="165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’s Research to Enhance and Support Patient Safety Indica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e Elixhauser, Ph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tudy: Adding clinical data el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the enhancement of administrative claims data: State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dministrative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wide data readily available from mos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atient Quality Indicators (mortality, utilization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atric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urrently used for public reporting on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 of Current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regarding use of only administrative data for hospital-specif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risk adjustment – additional data needed to predict individual patient’s risk of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S’ Quality Improv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hrough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uality and report compara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-Based Purchasing:  improve quality and avoid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doption of effective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innovation and the evidence base for effective us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 Between Value of Data and Cost of Obtaining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 hospitals provided chart-abstracted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concern about costs of medical record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edical records not yet poised to provide data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b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9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impact of incrementally ad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A codes for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mber of diagnosi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documentation (ICD-9-CM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fficult to obtain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-effective enhancements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y Reported i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Enhancement of claims data to improve risk adjustment of hospital mortalit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67(1):71-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rdan HS, Pine M, Elixhauser A, et al. Cost-effective enhancement of claims data to improve comparisons of patient safe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Patient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3(2) 82-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y DR, Pine M, Jordan HS, et al. Combining administrative and clinical data to stratify surgical risk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nals of Sur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7; 246(5): 875-8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e M, Jordan HS, Elixhauser A, et al. Modifying claims data to improve risk-adjustment of inpatient mortality rates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cal Decision Ma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rthco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 Pennsylvania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from July 2000 to Jun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Atlas clin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day recorded for each data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 and California claim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which conditions were comorbidities versus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isk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ors Stud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A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o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rovascular acc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6240" y="1676160"/>
            <a:ext cx="4487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operativ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embolism/deep vein thromb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/metabolic abnorm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476360"/>
          <a:ext cx="8686800" cy="5029200"/>
        </p:xfrm>
        <a:graphic>
          <a:graphicData uri="http://schemas.openxmlformats.org/drawingml/2006/table">
            <a:tbl>
              <a:tblPr/>
              <a:tblGrid>
                <a:gridCol w="1581120"/>
                <a:gridCol w="7105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, sex, principal diagnosis, up to 8 secondary diagnoses only infrequently acquired during hospitalization, selected surgical proced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-8 + secondary diagnoses not included in ADM-8, when clinical data establish that they were present on ad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 POA-8 with up to 24 secondary diagno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sed in Incrementally More Complex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1676520"/>
          <a:ext cx="8610480" cy="4633920"/>
        </p:xfrm>
        <a:graphic>
          <a:graphicData uri="http://schemas.openxmlformats.org/drawingml/2006/table">
            <a:tbl>
              <a:tblPr/>
              <a:tblGrid>
                <a:gridCol w="1855800"/>
                <a:gridCol w="67546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Data E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A-24 + numerical laboratory data on admission (e.g., creatinine, white blood cell count) generally available in electronic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-I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secondary diagnoses not included in POA-24 because they were underreported in administrative database but were established as present on admission in clinical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+ vital signs and lab data not in LAB (e.g., blood culture results) + key clinical findings abstracted from medical records (e.g., immunocompromised) + composite clinical scores (i.e., ASA Classifi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erical Lab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3276360"/>
            <a:ext cx="3276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(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T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32763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OT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n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in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K-MB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1447920"/>
            <a:ext cx="79250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22 lab tests entered at least on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14 of these tests entered four or more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 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statistic for  pure administrative model = 0.7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POA = 0.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lab data = 0.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linical model = 0.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ncrease in c-statistic is for PO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biggest increase when we add laboratory values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clinical model adds little additional discriminative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fety models showed a similar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Hospital B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how hospital rankings would vary depending on amount of clinical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line: With less clinical information, more hospitals will be misassigned to “high quality” or “low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aboratory information, about 18% of hospitals are misassigned, compared to full clin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lso improve ICD coding, only 5% of hospitals are misassigned, compared to full cli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P Program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520" y="1590480"/>
            <a:ext cx="649476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lin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dverse events and improve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patient-centere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nnecessary costs in the delivery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investments in effective structural components o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erformance results transparent and comprehe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mpower consumers to make value-based decisions about their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courage hospitals and clinicians to improve quality of c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 Signs and Other Clinic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vital sign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(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s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ction fraction and culture results entered tw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scores entered four or mor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 classification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sgow Coma Scor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tracted Key Clinical F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93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clinical findings entered at least o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ree findings entered more than tw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malnutrition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osuppressed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of these clinical findings have corresponding ICD-9-CM codes (e.g., coma, malnutr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– Cost-Effect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OA and lab data has the smallest incremental costs for the improvement in clinical specificity = Most cost-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$5 per hospital correctly assigned, compared to over $80 per correct assignment for full clin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Analy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data can be improved at relatively low cos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PO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umerical lab data on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Study Resul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Clinical Data to Statewide Administrati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to add or link hospital clinical information to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Septemb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for completion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 of 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45640" y="20570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easibility of linking clinical and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producible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select clinical data elements to add to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clinical data from electronic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ally transfer data from hospitals to the data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ata into a multi-hospital database and conduct analy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reliability of POA coding through algorithms applied to dischar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 with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in peer-to-peer learning, information sharing,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report that provides 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icious addition of a few clinical data elements can significantly improve ability to do quality assessment using administr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on ad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tentially) vital 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ICD-9-CM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 of POA coding needs to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will jumpstart the enhancement of administrative data by statewide data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10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 Bazell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Hostetler, 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ension of IPPS HAC Program to Hospital Outpatient (HOP)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CMS’ activities to drive quality improvement, value, and patient safety in the HOP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encounters cover a large number and broad array of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in services from hospital inpatient to outpatient signals likelihood that healthcare-associated conditions will increase in HOP set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services often precede inpat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VBP Mean to C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ing Medicare from a passive payer to an active purchaser of higher quality, more efficient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initiatives for promoting better quality, while avoiding unnecessary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  measurement, payment incentives, public reporting, conditions of participation, coverage policy, QIO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ves:  pay for reporting, pay for performance, gainsharing, competitive bidding, bundled payment, coverage decisions, direct provid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abor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s for Disease Control (C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Uniform Billing Committee (NU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atient Prospective Payment System (OPPS)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payment based on relative costs from hospital claims for services assigned to Ambulatory Payment Classification (APC)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payment rate for each A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Cs include HCPCS codes for items or services that are clinically similar and that have comparable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often receive multiple APC payments for a single HOP en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tial payment adjustment for disease severity; more complex patients may require additional services, which may be separately p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on Admission Indic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S currently lacks the infrastructure to identify and collect POA indicato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approach could identify services for conditions present on hospital arrival by HCPCS modif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ddress current ICD-9-CM POA reporting guidelines that consider conditions that occur during outpatient encounters P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conditions present on hospital arrival for HOP-HACs should be administratively manageable for hospit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Infrastructure Conc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departments or clinics during an outpatient encoun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may be seen in multiple settings (hospital and nonhospital) over many  en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s generally of short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 versus patient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-specif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flat payment rate reduction or nonpayment for some (HOP-HAC related) or all services provided during HOP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ed rate could be derived from analysis of OPPS claims with and without HOP-HACs, analysis of IPPS DRG payment relationships, rates paid to hospitals that do not meet quality reporting standards, or other method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could identify non-covered charges for HOP-HAC rela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would not collect deductibles and copayments for HOP-HAC related servi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yment Adjustment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specific approaches (rate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stablishing hospital rate of healthcare-associated conditions and define a benchmark or best practice rate above which a hospital payment adjustment would be made for some or all services in a time perio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not require hospitals to specifically identify HOP-HAC relat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episode-based payment across the continuum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Outpatient Healthcare- Associated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didate Healthcare-Associated Conditions (HACs) for the Hospital Outpatient (HOP) Set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3886200"/>
            <a:ext cx="6324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ila H. Roma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-  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153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riteria for Possible Candidate HOP-H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PPS H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Conditions that occur during and result from care provided in a single HOP en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Conditions that do not require longitudinal examination of a beneficiary’s healthcare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POA/disease severity would have little influence on occurrence of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Provider attribution cl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itial Candidate HOP-HA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ft in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s and Trauma – fractures, dislocations, intracranial injuries, crushing injuries, and b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nditions identified by ICD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ther HOP-HACs for Conside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medication administration/medication errors in the HOP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surgery or othe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 related to HOP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related to HOP patient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g29r</cp:lastModifiedBy>
  <dcterms:modified xsi:type="dcterms:W3CDTF">2008-12-11T18:22:54Z</dcterms:modified>
  <cp:revision>2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186640</vt:r8>
  </property>
  <property fmtid="{D5CDD505-2E9C-101B-9397-08002B2CF9AE}" pid="3" name="_AuthorEmail">
    <vt:lpwstr>Lisa.Grabert@cms.hhs.gov</vt:lpwstr>
  </property>
  <property fmtid="{D5CDD505-2E9C-101B-9397-08002B2CF9AE}" pid="4" name="_AuthorEmailDisplayName">
    <vt:lpwstr>Grabert, Lisa (CMS/CMM)</vt:lpwstr>
  </property>
  <property fmtid="{D5CDD505-2E9C-101B-9397-08002B2CF9AE}" pid="5" name="_EmailSubject">
    <vt:lpwstr>Round Bullets</vt:lpwstr>
  </property>
  <property fmtid="{D5CDD505-2E9C-101B-9397-08002B2CF9AE}" pid="6" name="_NewReviewCycle">
    <vt:lpwstr/>
  </property>
</Properties>
</file>